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45672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47640" y="225360"/>
            <a:ext cx="62643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45672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2364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456720"/>
            <a:ext cx="264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47640" y="225360"/>
            <a:ext cx="62643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45672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23640"/>
            <a:ext cx="40158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456720"/>
            <a:ext cx="82296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76720" y="6200640"/>
            <a:ext cx="125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33EE03-9256-42C0-A0FC-89E8B5F087A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of 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9"/>
          <a:stretch/>
        </p:blipFill>
        <p:spPr>
          <a:xfrm>
            <a:off x="468360" y="5877000"/>
            <a:ext cx="1133280" cy="571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10"/>
          <a:stretch/>
        </p:blipFill>
        <p:spPr>
          <a:xfrm>
            <a:off x="7812000" y="5805360"/>
            <a:ext cx="890640" cy="74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619280" y="6129360"/>
            <a:ext cx="608472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11"/>
          <a:stretch/>
        </p:blipFill>
        <p:spPr>
          <a:xfrm>
            <a:off x="468360" y="8100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66560" y="873000"/>
            <a:ext cx="820908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24000" y="63324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lKom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1640" y="153792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877000"/>
            <a:ext cx="11332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812000" y="5805360"/>
            <a:ext cx="890640" cy="74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6129360"/>
            <a:ext cx="6084720" cy="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8360" y="8100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63324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lKom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6560" y="873000"/>
            <a:ext cx="820908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50000"/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30000"/>
              <a:buFont typeface="Symbol" charset="2"/>
              <a:buChar char="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5000"/>
              <a:buFont typeface="Symbol" charset="2"/>
              <a:buChar char="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5000"/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5000"/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41.png"/><Relationship Id="rId11" Type="http://schemas.openxmlformats.org/officeDocument/2006/relationships/image" Target="../media/image36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png"/><Relationship Id="rId7" Type="http://schemas.openxmlformats.org/officeDocument/2006/relationships/image" Target="../media/image36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48.png"/><Relationship Id="rId11" Type="http://schemas.openxmlformats.org/officeDocument/2006/relationships/image" Target="../media/image36.png"/><Relationship Id="rId12" Type="http://schemas.openxmlformats.org/officeDocument/2006/relationships/image" Target="../media/image56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6.png"/><Relationship Id="rId6" Type="http://schemas.openxmlformats.org/officeDocument/2006/relationships/image" Target="../media/image61.png"/><Relationship Id="rId7" Type="http://schemas.openxmlformats.org/officeDocument/2006/relationships/image" Target="../media/image37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37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image" Target="../media/image66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36.png"/><Relationship Id="rId10" Type="http://schemas.openxmlformats.org/officeDocument/2006/relationships/image" Target="../media/image7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52.png"/><Relationship Id="rId11" Type="http://schemas.openxmlformats.org/officeDocument/2006/relationships/image" Target="../media/image59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7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0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6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he Flow Lattice of Oriented Matroid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4360" y="4403880"/>
            <a:ext cx="59752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nfried Hochstättler, </a:t>
            </a:r>
            <a:r>
              <a:rPr b="1" lang="de-DE" sz="1800" spc="-1" strike="noStrike">
                <a:solidFill>
                  <a:srgbClr val="0000cc"/>
                </a:solidFill>
                <a:latin typeface="Times New Roman"/>
              </a:rPr>
              <a:t>Robert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thematical Foundations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epartment of 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randenburg Technical University Cott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76720" y="2960640"/>
            <a:ext cx="1298520" cy="865080"/>
            <a:chOff x="5076720" y="2960640"/>
            <a:chExt cx="1298520" cy="865080"/>
          </a:xfrm>
        </p:grpSpPr>
        <p:sp>
          <p:nvSpPr>
            <p:cNvPr id="92" name=""/>
            <p:cNvSpPr/>
            <p:nvPr/>
          </p:nvSpPr>
          <p:spPr>
            <a:xfrm flipV="1">
              <a:off x="5149800" y="3031920"/>
              <a:ext cx="576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725800" y="3031920"/>
              <a:ext cx="5763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38520" y="3391920"/>
              <a:ext cx="863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113440" y="3391920"/>
              <a:ext cx="90000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4520" y="296064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30880" y="3681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1800" y="33192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5800" y="3321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6720" y="3681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4520" y="3429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684520" y="2894040"/>
            <a:ext cx="1202760" cy="958680"/>
            <a:chOff x="2684520" y="2894040"/>
            <a:chExt cx="1202760" cy="958680"/>
          </a:xfrm>
        </p:grpSpPr>
        <p:sp>
          <p:nvSpPr>
            <p:cNvPr id="103" name=""/>
            <p:cNvSpPr/>
            <p:nvPr/>
          </p:nvSpPr>
          <p:spPr>
            <a:xfrm rot="18160800">
              <a:off x="2519640" y="3339000"/>
              <a:ext cx="1008000" cy="34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435000">
              <a:off x="3059280" y="3339360"/>
              <a:ext cx="1008000" cy="34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90720" y="3778200"/>
              <a:ext cx="1007640" cy="34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9632600">
              <a:off x="2719080" y="3604680"/>
              <a:ext cx="612360" cy="36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66200">
              <a:off x="3259080" y="3597120"/>
              <a:ext cx="612360" cy="36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3049920" y="3188160"/>
              <a:ext cx="492120" cy="3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2880" y="2894040"/>
              <a:ext cx="1076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79640" y="3743280"/>
              <a:ext cx="1076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84520" y="3735360"/>
              <a:ext cx="1076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0" y="3392280"/>
              <a:ext cx="1072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03640" y="3357720"/>
            <a:ext cx="828720" cy="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87640" y="22536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 Oriented Matroids (Digraphs and mor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rning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im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we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mentary circuits               to a basis     of      form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a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utation of        is known to be an        -hard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digraph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te’s 6-flow theo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tte’s 3-, 4-, 5-flow conj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3924360" y="159228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2654280" y="2073240"/>
            <a:ext cx="2422440" cy="2397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3348000" y="2805120"/>
            <a:ext cx="789120" cy="228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0"/>
          <a:stretch/>
        </p:blipFill>
        <p:spPr>
          <a:xfrm>
            <a:off x="5253120" y="281628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1"/>
          <a:stretch/>
        </p:blipFill>
        <p:spPr>
          <a:xfrm>
            <a:off x="5796000" y="281628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2"/>
          <a:stretch/>
        </p:blipFill>
        <p:spPr>
          <a:xfrm>
            <a:off x="5265720" y="3511440"/>
            <a:ext cx="422280" cy="204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3"/>
          <a:stretch/>
        </p:blipFill>
        <p:spPr>
          <a:xfrm>
            <a:off x="7696080" y="2816280"/>
            <a:ext cx="331920" cy="2174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4"/>
          <a:stretch/>
        </p:blipFill>
        <p:spPr>
          <a:xfrm>
            <a:off x="3030480" y="3522600"/>
            <a:ext cx="274680" cy="22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20600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    b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on-uni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uniform case considered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m: Any connected co-si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uniform oriented matroid of rank 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re than 6 elements has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rivial 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latti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. e.                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simple means (for rank 3):      does not contain an              -poin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aximum regular oriented matroid of rank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a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is constructed indu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k 3 (Points in the plan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4032360" y="3705120"/>
            <a:ext cx="182520" cy="171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6338880" y="3681360"/>
            <a:ext cx="754200" cy="22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2627280" y="2962440"/>
            <a:ext cx="982800" cy="250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016000" y="551808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1"/>
          <a:stretch/>
        </p:blipFill>
        <p:spPr>
          <a:xfrm>
            <a:off x="1295280" y="1349280"/>
            <a:ext cx="182520" cy="171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2"/>
          <a:stretch/>
        </p:blipFill>
        <p:spPr>
          <a:xfrm>
            <a:off x="900000" y="4424400"/>
            <a:ext cx="719280" cy="228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6551640" y="1736640"/>
            <a:ext cx="1440000" cy="1190880"/>
            <a:chOff x="6551640" y="1736640"/>
            <a:chExt cx="1440000" cy="1190880"/>
          </a:xfrm>
        </p:grpSpPr>
        <p:sp>
          <p:nvSpPr>
            <p:cNvPr id="369" name=""/>
            <p:cNvSpPr/>
            <p:nvPr/>
          </p:nvSpPr>
          <p:spPr>
            <a:xfrm flipH="1" flipV="1">
              <a:off x="6622560" y="2098440"/>
              <a:ext cx="576360" cy="75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659640" y="2098440"/>
              <a:ext cx="503280" cy="75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0560" y="2494080"/>
              <a:ext cx="1008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199280" y="2098440"/>
              <a:ext cx="503280" cy="75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2920" y="20988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280" y="202572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1640" y="202392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38920" y="2421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78560" y="2421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31280" y="202392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6560" y="27828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46920" y="2421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26200" y="278136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0360" y="173664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form Case (Points in General Posi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s do not share a hyper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circuit has           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627280" y="3321000"/>
            <a:ext cx="1224000" cy="1403280"/>
            <a:chOff x="2627280" y="3321000"/>
            <a:chExt cx="1224000" cy="1403280"/>
          </a:xfrm>
        </p:grpSpPr>
        <p:sp>
          <p:nvSpPr>
            <p:cNvPr id="386" name=""/>
            <p:cNvSpPr/>
            <p:nvPr/>
          </p:nvSpPr>
          <p:spPr>
            <a:xfrm>
              <a:off x="3166920" y="3321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27280" y="3679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66920" y="457992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06920" y="42210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27280" y="42210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06920" y="3679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627280" y="3321000"/>
            <a:ext cx="1224000" cy="1405080"/>
            <a:chOff x="2627280" y="3321000"/>
            <a:chExt cx="1224000" cy="1405080"/>
          </a:xfrm>
        </p:grpSpPr>
        <p:sp>
          <p:nvSpPr>
            <p:cNvPr id="393" name=""/>
            <p:cNvSpPr/>
            <p:nvPr/>
          </p:nvSpPr>
          <p:spPr>
            <a:xfrm>
              <a:off x="2627280" y="33228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06920" y="33210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27280" y="458172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7280" y="42228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06920" y="4581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7280" y="3681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2592360" y="4976640"/>
            <a:ext cx="1246320" cy="228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900000" y="1341360"/>
            <a:ext cx="1121040" cy="193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2535120" y="1722600"/>
            <a:ext cx="560520" cy="193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>
            <a:off x="5665680" y="4976640"/>
            <a:ext cx="1246320" cy="2286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5688000" y="3321000"/>
            <a:ext cx="1224000" cy="1152720"/>
            <a:chOff x="5688000" y="3321000"/>
            <a:chExt cx="1224000" cy="1152720"/>
          </a:xfrm>
        </p:grpSpPr>
        <p:sp>
          <p:nvSpPr>
            <p:cNvPr id="404" name=""/>
            <p:cNvSpPr/>
            <p:nvPr/>
          </p:nvSpPr>
          <p:spPr>
            <a:xfrm>
              <a:off x="6227640" y="3321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88000" y="3679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27640" y="389736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51640" y="43290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4000" y="43290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67640" y="3679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27280" y="3321000"/>
            <a:ext cx="1224000" cy="1152360"/>
            <a:chOff x="2627280" y="3321000"/>
            <a:chExt cx="1224000" cy="1152360"/>
          </a:xfrm>
        </p:grpSpPr>
        <p:sp>
          <p:nvSpPr>
            <p:cNvPr id="411" name=""/>
            <p:cNvSpPr/>
            <p:nvPr/>
          </p:nvSpPr>
          <p:spPr>
            <a:xfrm>
              <a:off x="3166920" y="3321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27280" y="36795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6920" y="357336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0920" y="4329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43280" y="4329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06920" y="36795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form Case (Points in General Posi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4708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n rank (odd dimension) we ha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ochstättler, 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m: Let     be a uniform oriented matroid of odd rank on     elements.                         Th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if and only if there is a reorientation     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reorientation with balanced circu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neighborly matroid poly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2340000" y="2384280"/>
            <a:ext cx="182520" cy="171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72360" y="2451240"/>
            <a:ext cx="136440" cy="114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6551640" y="270684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064280" y="2684520"/>
            <a:ext cx="1497240" cy="239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3297240" y="4103640"/>
            <a:ext cx="2354400" cy="297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0"/>
          <a:stretch/>
        </p:blipFill>
        <p:spPr>
          <a:xfrm>
            <a:off x="826920" y="4809960"/>
            <a:ext cx="297000" cy="217800"/>
          </a:xfrm>
          <a:prstGeom prst="rect">
            <a:avLst/>
          </a:prstGeom>
          <a:ln w="0">
            <a:noFill/>
          </a:ln>
        </p:spPr>
      </p:pic>
      <p:grpSp>
        <p:nvGrpSpPr>
          <p:cNvPr id="425" name=""/>
          <p:cNvGrpSpPr/>
          <p:nvPr/>
        </p:nvGrpSpPr>
        <p:grpSpPr>
          <a:xfrm>
            <a:off x="6875640" y="4113360"/>
            <a:ext cx="1331280" cy="973080"/>
            <a:chOff x="6875640" y="4113360"/>
            <a:chExt cx="1331280" cy="973080"/>
          </a:xfrm>
        </p:grpSpPr>
        <p:grpSp>
          <p:nvGrpSpPr>
            <p:cNvPr id="426" name=""/>
            <p:cNvGrpSpPr/>
            <p:nvPr/>
          </p:nvGrpSpPr>
          <p:grpSpPr>
            <a:xfrm>
              <a:off x="6875640" y="4113360"/>
              <a:ext cx="1331280" cy="973080"/>
              <a:chOff x="6875640" y="4113360"/>
              <a:chExt cx="1331280" cy="97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6875640" y="4186080"/>
                <a:ext cx="1115640" cy="790200"/>
              </a:xfrm>
              <a:custGeom>
                <a:avLst/>
                <a:gdLst/>
                <a:ahLst/>
                <a:rect l="l" t="t" r="r" b="b"/>
                <a:pathLst>
                  <a:path w="703" h="498">
                    <a:moveTo>
                      <a:pt x="0" y="90"/>
                    </a:moveTo>
                    <a:lnTo>
                      <a:pt x="657" y="498"/>
                    </a:lnTo>
                    <a:lnTo>
                      <a:pt x="703" y="408"/>
                    </a:lnTo>
                    <a:lnTo>
                      <a:pt x="68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9280" y="4113360"/>
                <a:ext cx="1007640" cy="973080"/>
              </a:xfrm>
              <a:custGeom>
                <a:avLst/>
                <a:gdLst/>
                <a:ahLst/>
                <a:rect l="l" t="t" r="r" b="b"/>
                <a:pathLst>
                  <a:path w="635" h="613">
                    <a:moveTo>
                      <a:pt x="0" y="544"/>
                    </a:moveTo>
                    <a:lnTo>
                      <a:pt x="567" y="0"/>
                    </a:lnTo>
                    <a:lnTo>
                      <a:pt x="635" y="68"/>
                    </a:lnTo>
                    <a:lnTo>
                      <a:pt x="68" y="613"/>
                    </a:lnTo>
                    <a:lnTo>
                      <a:pt x="0" y="54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913440" y="42210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1240" y="41418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37440" y="48974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12000" y="478944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11"/>
          <a:stretch/>
        </p:blipFill>
        <p:spPr>
          <a:xfrm>
            <a:off x="5113440" y="1312920"/>
            <a:ext cx="1092240" cy="2667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2"/>
          <a:stretch/>
        </p:blipFill>
        <p:spPr>
          <a:xfrm>
            <a:off x="3641760" y="3036960"/>
            <a:ext cx="1473120" cy="39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3"/>
          <a:stretch/>
        </p:blipFill>
        <p:spPr>
          <a:xfrm>
            <a:off x="1511280" y="2695680"/>
            <a:ext cx="1222560" cy="22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form Case (Points in General Posi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m (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tructure of the lat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asis co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t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           is neighborly for all             then      is neighborly,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the basis inductive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954000" y="1881360"/>
            <a:ext cx="7486560" cy="8348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2408400" y="3303720"/>
            <a:ext cx="3531960" cy="593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1166760" y="4557600"/>
            <a:ext cx="525600" cy="239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3941640" y="4581360"/>
            <a:ext cx="594000" cy="171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5181480" y="458964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3316320" y="4270320"/>
            <a:ext cx="1039680" cy="19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     be simple and co-simple on more than 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295280" y="134136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857160" y="1744560"/>
            <a:ext cx="7328160" cy="352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any (rank-preserving) single element extension of a (maximal) regular oriented matroid increase the dimension by          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imension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for general oriented matroi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       always have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asis of signed circu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an orientable matroid       so that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              would b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well defined for orientable matro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948120" y="3814920"/>
            <a:ext cx="263520" cy="1825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2409840" y="4224240"/>
            <a:ext cx="1622520" cy="2509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4680000" y="4197240"/>
            <a:ext cx="1976400" cy="2397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2016000" y="4952880"/>
            <a:ext cx="765360" cy="2397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3556080" y="2347920"/>
            <a:ext cx="331560" cy="217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6135840" y="1628640"/>
            <a:ext cx="560160" cy="193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1468440" y="3090960"/>
            <a:ext cx="331920" cy="228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006360" y="2909880"/>
            <a:ext cx="35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s and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orientation and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pproach to define a flow number of an oriented matro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low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regular oriented mat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rank 3 oriented mat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uniform oriented mat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s and Flows in Digraph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86240" y="1413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irected circ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Circular f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2997360"/>
            <a:ext cx="32400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63640" y="2636640"/>
            <a:ext cx="136836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403280" y="2313000"/>
            <a:ext cx="540000" cy="6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63280" y="2313000"/>
            <a:ext cx="1621440" cy="2052720"/>
            <a:chOff x="1763280" y="2313000"/>
            <a:chExt cx="1621440" cy="2052720"/>
          </a:xfrm>
        </p:grpSpPr>
        <p:sp>
          <p:nvSpPr>
            <p:cNvPr id="122" name=""/>
            <p:cNvSpPr/>
            <p:nvPr/>
          </p:nvSpPr>
          <p:spPr>
            <a:xfrm>
              <a:off x="2735280" y="3716280"/>
              <a:ext cx="61272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3640" y="2600280"/>
              <a:ext cx="181080" cy="172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800360" y="3608280"/>
              <a:ext cx="89856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3280" y="2313000"/>
              <a:ext cx="12236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763280" y="2313000"/>
              <a:ext cx="179640" cy="12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>
            <a:off x="2771640" y="2637000"/>
            <a:ext cx="3952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55800" y="2276640"/>
            <a:ext cx="1563840" cy="2015640"/>
            <a:chOff x="1855800" y="2276640"/>
            <a:chExt cx="1563840" cy="2015640"/>
          </a:xfrm>
        </p:grpSpPr>
        <p:sp>
          <p:nvSpPr>
            <p:cNvPr id="129" name=""/>
            <p:cNvSpPr/>
            <p:nvPr/>
          </p:nvSpPr>
          <p:spPr>
            <a:xfrm>
              <a:off x="2050920" y="2276640"/>
              <a:ext cx="93672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720" y="2708280"/>
              <a:ext cx="142920" cy="144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750760" y="3823920"/>
              <a:ext cx="431640" cy="468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1995480" y="3696840"/>
              <a:ext cx="612720" cy="7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855800" y="2400120"/>
              <a:ext cx="144360" cy="97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373040" y="3178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49160" y="2817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0440" y="2384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925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33440" y="34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1400" y="3033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9160" y="3273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7800" y="3760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32000" y="2241720"/>
            <a:ext cx="2124000" cy="2197080"/>
            <a:chOff x="1332000" y="2241720"/>
            <a:chExt cx="2124000" cy="2197080"/>
          </a:xfrm>
        </p:grpSpPr>
        <p:sp>
          <p:nvSpPr>
            <p:cNvPr id="143" name=""/>
            <p:cNvSpPr/>
            <p:nvPr/>
          </p:nvSpPr>
          <p:spPr>
            <a:xfrm>
              <a:off x="1871640" y="2241720"/>
              <a:ext cx="1080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2440" y="3660840"/>
              <a:ext cx="1080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2000" y="2924280"/>
              <a:ext cx="1080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2000" y="2565360"/>
              <a:ext cx="1080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2360" y="3537000"/>
              <a:ext cx="10800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4329000"/>
              <a:ext cx="10800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865520" y="2068560"/>
            <a:ext cx="1730160" cy="2189880"/>
            <a:chOff x="1865520" y="2068560"/>
            <a:chExt cx="1730160" cy="2189880"/>
          </a:xfrm>
        </p:grpSpPr>
        <p:sp>
          <p:nvSpPr>
            <p:cNvPr id="150" name=""/>
            <p:cNvSpPr/>
            <p:nvPr/>
          </p:nvSpPr>
          <p:spPr>
            <a:xfrm>
              <a:off x="2439720" y="2068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12720" y="31287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65800" y="39211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12560" y="3652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5520" y="27525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862520" y="4029120"/>
            <a:ext cx="2446200" cy="4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824360" y="3216240"/>
            <a:ext cx="3222720" cy="53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4857840" y="1897200"/>
            <a:ext cx="3314520" cy="307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283440" y="2671920"/>
            <a:ext cx="62856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6438960" y="1519200"/>
            <a:ext cx="617400" cy="182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77800" y="23922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77800" y="2060640"/>
            <a:ext cx="2121120" cy="2189880"/>
            <a:chOff x="1477800" y="2060640"/>
            <a:chExt cx="2121120" cy="2189880"/>
          </a:xfrm>
        </p:grpSpPr>
        <p:sp>
          <p:nvSpPr>
            <p:cNvPr id="162" name=""/>
            <p:cNvSpPr/>
            <p:nvPr/>
          </p:nvSpPr>
          <p:spPr>
            <a:xfrm>
              <a:off x="1585800" y="2544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868760" y="2060640"/>
              <a:ext cx="1730160" cy="2189880"/>
              <a:chOff x="1868760" y="2060640"/>
              <a:chExt cx="1730160" cy="2189880"/>
            </a:xfrm>
          </p:grpSpPr>
          <p:sp>
            <p:nvSpPr>
              <p:cNvPr id="164" name=""/>
              <p:cNvSpPr/>
              <p:nvPr/>
            </p:nvSpPr>
            <p:spPr>
              <a:xfrm>
                <a:off x="2442960" y="20606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5960" y="31208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69040" y="391320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15800" y="36450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8760" y="274464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imes New Roman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477800" y="2976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9600" y="302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82520" y="3133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4840200" y="5164200"/>
            <a:ext cx="3189240" cy="23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274464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 partition implies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g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s in the Sp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2400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on’s Theorem (1952): 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pairwise different.  For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s a part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Radon part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so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74480" y="3754440"/>
            <a:ext cx="1895760" cy="1295280"/>
            <a:chOff x="2274480" y="3754440"/>
            <a:chExt cx="1895760" cy="1295280"/>
          </a:xfrm>
        </p:grpSpPr>
        <p:grpSp>
          <p:nvGrpSpPr>
            <p:cNvPr id="177" name=""/>
            <p:cNvGrpSpPr/>
            <p:nvPr/>
          </p:nvGrpSpPr>
          <p:grpSpPr>
            <a:xfrm>
              <a:off x="2550960" y="3933720"/>
              <a:ext cx="1332000" cy="973080"/>
              <a:chOff x="2550960" y="3933720"/>
              <a:chExt cx="1332000" cy="973080"/>
            </a:xfrm>
          </p:grpSpPr>
          <p:sp>
            <p:nvSpPr>
              <p:cNvPr id="178" name=""/>
              <p:cNvSpPr/>
              <p:nvPr/>
            </p:nvSpPr>
            <p:spPr>
              <a:xfrm>
                <a:off x="2550960" y="4006440"/>
                <a:ext cx="1116000" cy="790200"/>
              </a:xfrm>
              <a:custGeom>
                <a:avLst/>
                <a:gdLst/>
                <a:ahLst/>
                <a:rect l="l" t="t" r="r" b="b"/>
                <a:pathLst>
                  <a:path w="703" h="498">
                    <a:moveTo>
                      <a:pt x="0" y="90"/>
                    </a:moveTo>
                    <a:lnTo>
                      <a:pt x="657" y="498"/>
                    </a:lnTo>
                    <a:lnTo>
                      <a:pt x="703" y="408"/>
                    </a:lnTo>
                    <a:lnTo>
                      <a:pt x="68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4960" y="3933720"/>
                <a:ext cx="1008000" cy="973080"/>
              </a:xfrm>
              <a:custGeom>
                <a:avLst/>
                <a:gdLst/>
                <a:ahLst/>
                <a:rect l="l" t="t" r="r" b="b"/>
                <a:pathLst>
                  <a:path w="635" h="613">
                    <a:moveTo>
                      <a:pt x="0" y="544"/>
                    </a:moveTo>
                    <a:lnTo>
                      <a:pt x="567" y="0"/>
                    </a:lnTo>
                    <a:lnTo>
                      <a:pt x="635" y="68"/>
                    </a:lnTo>
                    <a:lnTo>
                      <a:pt x="68" y="613"/>
                    </a:lnTo>
                    <a:lnTo>
                      <a:pt x="0" y="54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288880" y="3754440"/>
              <a:ext cx="1881360" cy="1295280"/>
              <a:chOff x="2288880" y="3754440"/>
              <a:chExt cx="1881360" cy="1295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298600" y="3754440"/>
                <a:ext cx="1871640" cy="1295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88880" y="42512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274480" y="3775320"/>
              <a:ext cx="1667880" cy="1253520"/>
              <a:chOff x="2274480" y="3775320"/>
              <a:chExt cx="1667880" cy="1253520"/>
            </a:xfrm>
          </p:grpSpPr>
          <p:sp>
            <p:nvSpPr>
              <p:cNvPr id="184" name=""/>
              <p:cNvSpPr/>
              <p:nvPr/>
            </p:nvSpPr>
            <p:spPr>
              <a:xfrm rot="18093000">
                <a:off x="2892600" y="3555720"/>
                <a:ext cx="431640" cy="1692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85120" y="4179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589120" y="404172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0560" y="3537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6920" y="396252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4040" y="356544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3120" y="47181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87680" y="46101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2400" y="350028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33440" y="332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5080" y="332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7080" y="3645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1080" y="4068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49440" y="3897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0760" y="46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32040" y="4761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71740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zation of circuits in loop-less di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554800" y="3681360"/>
            <a:ext cx="2438280" cy="330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95640" y="1282680"/>
            <a:ext cx="1600200" cy="274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900000" y="1641600"/>
            <a:ext cx="2239920" cy="239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851280" y="1641600"/>
            <a:ext cx="1211400" cy="239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945480" y="1641600"/>
            <a:ext cx="1406520" cy="239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2879640" y="2349360"/>
            <a:ext cx="2982960" cy="239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5632560" y="4149720"/>
            <a:ext cx="1892160" cy="26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103640" y="4545000"/>
            <a:ext cx="1332000" cy="1297080"/>
            <a:chOff x="4103640" y="4545000"/>
            <a:chExt cx="1332000" cy="1297080"/>
          </a:xfrm>
        </p:grpSpPr>
        <p:sp>
          <p:nvSpPr>
            <p:cNvPr id="209" name=""/>
            <p:cNvSpPr/>
            <p:nvPr/>
          </p:nvSpPr>
          <p:spPr>
            <a:xfrm>
              <a:off x="4451400" y="4545000"/>
              <a:ext cx="675720" cy="12970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1800" y="4545000"/>
              <a:ext cx="36756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03640" y="4545000"/>
              <a:ext cx="1332000" cy="12970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52120" y="4545000"/>
              <a:ext cx="676080" cy="129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248000" y="3573360"/>
            <a:ext cx="1189080" cy="2376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26920" y="225360"/>
            <a:ext cx="6985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ientation and Geome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 are reoriented by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ipping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oint configurations we need some projective geomet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the points on the projective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orientation of an element is done by replacing the point by its double on the opposite half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ojective transformation then defines a new equator so that all points are on one half sphere (see Grünbaum – Convex Polytop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720" y="3573360"/>
            <a:ext cx="64620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3573360"/>
            <a:ext cx="2340000" cy="2376720"/>
          </a:xfrm>
          <a:prstGeom prst="ellipse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8000" y="3573360"/>
            <a:ext cx="1187640" cy="2376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88000" y="4724280"/>
            <a:ext cx="71280" cy="72720"/>
            <a:chOff x="4788000" y="4724280"/>
            <a:chExt cx="71280" cy="72720"/>
          </a:xfrm>
        </p:grpSpPr>
        <p:sp>
          <p:nvSpPr>
            <p:cNvPr id="220" name=""/>
            <p:cNvSpPr/>
            <p:nvPr/>
          </p:nvSpPr>
          <p:spPr>
            <a:xfrm>
              <a:off x="4824360" y="472428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88000" y="4760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27640" y="4005360"/>
            <a:ext cx="865080" cy="1655640"/>
            <a:chOff x="4427640" y="4005360"/>
            <a:chExt cx="865080" cy="1655640"/>
          </a:xfrm>
        </p:grpSpPr>
        <p:sp>
          <p:nvSpPr>
            <p:cNvPr id="223" name=""/>
            <p:cNvSpPr/>
            <p:nvPr/>
          </p:nvSpPr>
          <p:spPr>
            <a:xfrm>
              <a:off x="5148360" y="4689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64360" y="4508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00720" y="4005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5516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87640" y="508464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959280" y="3933720"/>
            <a:ext cx="1728720" cy="1656000"/>
            <a:chOff x="3959280" y="3933720"/>
            <a:chExt cx="1728720" cy="1656000"/>
          </a:xfrm>
        </p:grpSpPr>
        <p:sp>
          <p:nvSpPr>
            <p:cNvPr id="229" name=""/>
            <p:cNvSpPr/>
            <p:nvPr/>
          </p:nvSpPr>
          <p:spPr>
            <a:xfrm flipH="1" flipV="1">
              <a:off x="4535280" y="4581000"/>
              <a:ext cx="57636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4571640" y="4076280"/>
              <a:ext cx="50508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500360" y="3933720"/>
              <a:ext cx="647640" cy="1656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959280" y="4365720"/>
              <a:ext cx="1728720" cy="792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64360" y="4761000"/>
              <a:ext cx="75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614920" y="429264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392720" y="3860640"/>
            <a:ext cx="828720" cy="1657440"/>
            <a:chOff x="4392720" y="3860640"/>
            <a:chExt cx="828720" cy="1657440"/>
          </a:xfrm>
        </p:grpSpPr>
        <p:sp>
          <p:nvSpPr>
            <p:cNvPr id="236" name=""/>
            <p:cNvSpPr/>
            <p:nvPr/>
          </p:nvSpPr>
          <p:spPr>
            <a:xfrm>
              <a:off x="5040360" y="48690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7080" y="386064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2720" y="4689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04000" y="5373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348000" y="3681000"/>
            <a:ext cx="2952720" cy="611280"/>
            <a:chOff x="3348000" y="3681000"/>
            <a:chExt cx="2952720" cy="611280"/>
          </a:xfrm>
        </p:grpSpPr>
        <p:sp>
          <p:nvSpPr>
            <p:cNvPr id="241" name=""/>
            <p:cNvSpPr/>
            <p:nvPr/>
          </p:nvSpPr>
          <p:spPr>
            <a:xfrm flipV="1">
              <a:off x="3348000" y="3681000"/>
              <a:ext cx="90000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8000" y="3681360"/>
              <a:ext cx="20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00720" y="3681000"/>
              <a:ext cx="90000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8000" y="4292280"/>
              <a:ext cx="20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74920" y="3789360"/>
            <a:ext cx="1223640" cy="2304720"/>
            <a:chOff x="4174920" y="3789360"/>
            <a:chExt cx="1223640" cy="2304720"/>
          </a:xfrm>
        </p:grpSpPr>
        <p:grpSp>
          <p:nvGrpSpPr>
            <p:cNvPr id="246" name=""/>
            <p:cNvGrpSpPr/>
            <p:nvPr/>
          </p:nvGrpSpPr>
          <p:grpSpPr>
            <a:xfrm>
              <a:off x="4751280" y="5158080"/>
              <a:ext cx="71280" cy="72720"/>
              <a:chOff x="4751280" y="5158080"/>
              <a:chExt cx="71280" cy="72720"/>
            </a:xfrm>
          </p:grpSpPr>
          <p:sp>
            <p:nvSpPr>
              <p:cNvPr id="247" name=""/>
              <p:cNvSpPr/>
              <p:nvPr/>
            </p:nvSpPr>
            <p:spPr>
              <a:xfrm>
                <a:off x="4786200" y="5158080"/>
                <a:ext cx="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51280" y="51940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4174920" y="4005000"/>
              <a:ext cx="93636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787640" y="4149720"/>
              <a:ext cx="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751280" y="4041720"/>
              <a:ext cx="7128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751280" y="3789360"/>
              <a:ext cx="107640" cy="20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498920" y="3897360"/>
              <a:ext cx="89964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38560" y="3789360"/>
            <a:ext cx="1366920" cy="1657440"/>
            <a:chOff x="4138560" y="3789360"/>
            <a:chExt cx="1366920" cy="1657440"/>
          </a:xfrm>
        </p:grpSpPr>
        <p:sp>
          <p:nvSpPr>
            <p:cNvPr id="255" name=""/>
            <p:cNvSpPr/>
            <p:nvPr/>
          </p:nvSpPr>
          <p:spPr>
            <a:xfrm>
              <a:off x="4786200" y="4797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60760" y="422136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22920" y="3789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8560" y="461808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49840" y="53024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flipH="1">
            <a:off x="4102200" y="4400640"/>
            <a:ext cx="1512720" cy="68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6762600" y="4246560"/>
            <a:ext cx="1841760" cy="62244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295280" y="3741840"/>
            <a:ext cx="7524720" cy="1739880"/>
            <a:chOff x="1295280" y="3741840"/>
            <a:chExt cx="7524720" cy="1739880"/>
          </a:xfrm>
        </p:grpSpPr>
        <p:sp>
          <p:nvSpPr>
            <p:cNvPr id="263" name=""/>
            <p:cNvSpPr/>
            <p:nvPr/>
          </p:nvSpPr>
          <p:spPr>
            <a:xfrm>
              <a:off x="8028000" y="4041720"/>
              <a:ext cx="144360" cy="1403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49360" y="4041720"/>
              <a:ext cx="144720" cy="1403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3741840"/>
              <a:ext cx="172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rcui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34:+--+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35:+--0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45:+-0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345:+0+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45:0++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85080" y="3741840"/>
              <a:ext cx="1834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rcuits reor.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34:+-++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35:+-+0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45:+-0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345:+0-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45:0+--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178160" y="3608280"/>
            <a:ext cx="1733400" cy="1838520"/>
            <a:chOff x="4178160" y="3608280"/>
            <a:chExt cx="1733400" cy="1838520"/>
          </a:xfrm>
        </p:grpSpPr>
        <p:sp>
          <p:nvSpPr>
            <p:cNvPr id="268" name=""/>
            <p:cNvSpPr/>
            <p:nvPr/>
          </p:nvSpPr>
          <p:spPr>
            <a:xfrm>
              <a:off x="4970160" y="3608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78160" y="454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54520" y="4054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9800" y="470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13080" y="517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3.7037E-006 L -0.00365 -0.09445 E">
                                      <p:cBhvr>
                                        <p:cTn id="93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3154E-006 L -0.18889 0.11564 E">
                                      <p:cBhvr>
                                        <p:cTn id="15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0.18906 -0.11494 E">
                                      <p:cBhvr>
                                        <p:cTn id="15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s and Flows of an Oriented Matro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23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e a family of signed subsets of a finite set      that satisfies the following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    is the set of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gned circuits of an oriented matr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in                 is an integer combination of signed characteristic vectors of circu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1258920" y="2309760"/>
            <a:ext cx="2525760" cy="239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1258920" y="2584440"/>
            <a:ext cx="3760920" cy="285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332000" y="1347840"/>
            <a:ext cx="136440" cy="171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5987880" y="1341360"/>
            <a:ext cx="182880" cy="171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1278000" y="1952640"/>
            <a:ext cx="54936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1482840" y="4076640"/>
            <a:ext cx="136440" cy="171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6826320" y="4064040"/>
            <a:ext cx="1382760" cy="228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2303640" y="4424400"/>
            <a:ext cx="833400" cy="228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1727280" y="4476600"/>
            <a:ext cx="125280" cy="114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3211560" y="5075280"/>
            <a:ext cx="2879640" cy="479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7"/>
          <a:stretch/>
        </p:blipFill>
        <p:spPr>
          <a:xfrm>
            <a:off x="2870280" y="3124080"/>
            <a:ext cx="3349440" cy="54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low Number for Oriented Matro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8920" y="1223640"/>
            <a:ext cx="85341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ddyn, Tarsi, Zhang 1998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             be the set of co-circuits of      and        the set of all reorientations. The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riented 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graph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roids equal to the circular flow number of the grap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volves Hoffman’s Circulation Lemma 1960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bond      in the di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Rank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(M. Edmonds, McNulty 200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General 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-connected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(Goddyn, Hl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ý, Hochstätt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258920" y="1628640"/>
            <a:ext cx="639720" cy="239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4778280" y="1660680"/>
            <a:ext cx="182520" cy="171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5526000" y="165096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719360" y="4738680"/>
            <a:ext cx="707760" cy="217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3887640" y="5062680"/>
            <a:ext cx="1484640" cy="2743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2220840" y="2459160"/>
            <a:ext cx="4608720" cy="606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6480000" y="4024440"/>
            <a:ext cx="182880" cy="171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995400" y="3960720"/>
            <a:ext cx="3987720" cy="29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5003640" y="3716280"/>
            <a:ext cx="2195640" cy="865080"/>
            <a:chOff x="5003640" y="3716280"/>
            <a:chExt cx="2195640" cy="865080"/>
          </a:xfrm>
        </p:grpSpPr>
        <p:sp>
          <p:nvSpPr>
            <p:cNvPr id="297" name=""/>
            <p:cNvSpPr/>
            <p:nvPr/>
          </p:nvSpPr>
          <p:spPr>
            <a:xfrm>
              <a:off x="5003640" y="3716280"/>
              <a:ext cx="2195640" cy="865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040360" y="3753000"/>
              <a:ext cx="71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943280" y="3643200"/>
            <a:ext cx="2484360" cy="1260720"/>
            <a:chOff x="1943280" y="3643200"/>
            <a:chExt cx="2484360" cy="1260720"/>
          </a:xfrm>
        </p:grpSpPr>
        <p:sp>
          <p:nvSpPr>
            <p:cNvPr id="300" name=""/>
            <p:cNvSpPr/>
            <p:nvPr/>
          </p:nvSpPr>
          <p:spPr>
            <a:xfrm>
              <a:off x="1943280" y="3643200"/>
              <a:ext cx="2484360" cy="12607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015640" y="3716280"/>
              <a:ext cx="716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34920" y="3067200"/>
            <a:ext cx="1333800" cy="2160360"/>
            <a:chOff x="2734920" y="3067200"/>
            <a:chExt cx="1333800" cy="2160360"/>
          </a:xfrm>
        </p:grpSpPr>
        <p:sp>
          <p:nvSpPr>
            <p:cNvPr id="303" name=""/>
            <p:cNvSpPr/>
            <p:nvPr/>
          </p:nvSpPr>
          <p:spPr>
            <a:xfrm>
              <a:off x="2808360" y="3067200"/>
              <a:ext cx="1260360" cy="21603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34920" y="3213000"/>
              <a:ext cx="144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56000" y="3211560"/>
            <a:ext cx="216000" cy="2089080"/>
            <a:chOff x="3456000" y="3211560"/>
            <a:chExt cx="216000" cy="2089080"/>
          </a:xfrm>
        </p:grpSpPr>
        <p:sp>
          <p:nvSpPr>
            <p:cNvPr id="306" name=""/>
            <p:cNvSpPr/>
            <p:nvPr/>
          </p:nvSpPr>
          <p:spPr>
            <a:xfrm>
              <a:off x="3672000" y="3211560"/>
              <a:ext cx="0" cy="2089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456000" y="3357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a Matroid Invari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236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orientations of the same underlying matroid (e. g.        ) can lead to a different oriented flow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06680" y="3535200"/>
            <a:ext cx="1224000" cy="1403280"/>
            <a:chOff x="2506680" y="3535200"/>
            <a:chExt cx="1224000" cy="1403280"/>
          </a:xfrm>
        </p:grpSpPr>
        <p:sp>
          <p:nvSpPr>
            <p:cNvPr id="311" name=""/>
            <p:cNvSpPr/>
            <p:nvPr/>
          </p:nvSpPr>
          <p:spPr>
            <a:xfrm>
              <a:off x="3046320" y="353520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8941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6320" y="4794120"/>
              <a:ext cx="14472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6320" y="44352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06680" y="443520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86320" y="38941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107040" y="353520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67400" y="389412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07040" y="41115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31040" y="45435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83400" y="454356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47040" y="389412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373480" y="5478480"/>
            <a:ext cx="1396800" cy="254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5445000" y="5479920"/>
            <a:ext cx="1409760" cy="25416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2233080" y="3176640"/>
            <a:ext cx="1786680" cy="2060640"/>
            <a:chOff x="2233080" y="3176640"/>
            <a:chExt cx="1786680" cy="2060640"/>
          </a:xfrm>
        </p:grpSpPr>
        <p:sp>
          <p:nvSpPr>
            <p:cNvPr id="326" name=""/>
            <p:cNvSpPr/>
            <p:nvPr/>
          </p:nvSpPr>
          <p:spPr>
            <a:xfrm>
              <a:off x="2270160" y="3817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360" y="31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3080" y="4400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09440" y="4255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3440" y="3643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89080" y="48690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329080" y="3176640"/>
            <a:ext cx="1660320" cy="1801800"/>
            <a:chOff x="5329080" y="3176640"/>
            <a:chExt cx="1660320" cy="1801800"/>
          </a:xfrm>
        </p:grpSpPr>
        <p:sp>
          <p:nvSpPr>
            <p:cNvPr id="333" name=""/>
            <p:cNvSpPr/>
            <p:nvPr/>
          </p:nvSpPr>
          <p:spPr>
            <a:xfrm>
              <a:off x="5329080" y="3817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1280" y="31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32360" y="3643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20960" y="46101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8600" y="46101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49800" y="3787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220840" y="1276200"/>
            <a:ext cx="4608720" cy="606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6948360" y="2241720"/>
            <a:ext cx="435240" cy="25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22400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latt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n oriented matroid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efine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analog to the flow number of a di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dim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       have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hort character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     contain a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a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     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low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2447640" y="225360"/>
            <a:ext cx="62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low Latt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3900600" y="2806560"/>
            <a:ext cx="203040" cy="190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8"/>
          <a:stretch/>
        </p:blipFill>
        <p:spPr>
          <a:xfrm>
            <a:off x="2367000" y="3327480"/>
            <a:ext cx="389736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9"/>
          <a:stretch/>
        </p:blipFill>
        <p:spPr>
          <a:xfrm>
            <a:off x="2744640" y="1784520"/>
            <a:ext cx="3051360" cy="7077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0"/>
          <a:stretch/>
        </p:blipFill>
        <p:spPr>
          <a:xfrm>
            <a:off x="3556080" y="425772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1"/>
          <a:stretch/>
        </p:blipFill>
        <p:spPr>
          <a:xfrm>
            <a:off x="1476360" y="463068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2"/>
          <a:stretch/>
        </p:blipFill>
        <p:spPr>
          <a:xfrm>
            <a:off x="3664080" y="50007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3"/>
          <a:stretch/>
        </p:blipFill>
        <p:spPr>
          <a:xfrm>
            <a:off x="1519200" y="5013360"/>
            <a:ext cx="136440" cy="17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0:42:23Z</dcterms:created>
  <dc:creator>Robert Nickel</dc:creator>
  <dc:description/>
  <dc:language>en-US</dc:language>
  <cp:lastModifiedBy>Robert Nickel</cp:lastModifiedBy>
  <dcterms:modified xsi:type="dcterms:W3CDTF">2005-11-16T10:42:23Z</dcterms:modified>
  <cp:revision>77</cp:revision>
  <dc:subject/>
  <dc:title>Folie 1</dc:title>
</cp:coreProperties>
</file>