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AD6-4FBB-4B17-8855-20E94AAA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4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ECE-8F5F-4AF9-980C-F23A1C2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1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4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01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BE4-4E12-4DA1-857F-4298E2D9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49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4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249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ACF-F667-4928-BBDE-187B7EEC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6BD-8952-4D7B-8A9C-491FCB39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CDD-8EEC-46E3-AE27-64B52FD3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2EB-20CD-4397-A815-2F548250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13A-500C-4CB3-9BDB-AAC6B03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4360" y="302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60D-1520-48EB-9B47-56967EAE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1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C83-9B53-45DA-A8AC-11B4F69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01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639-6620-4CA3-8C31-7C2843A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1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142-048A-41BB-B812-085711DB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e8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5445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8000" y="0"/>
            <a:ext cx="755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374C94-15DA-442F-9515-94EF4E121EE5}" type="datetime10">
              <a:rPr b="0" lang="en-US" sz="1400" spc="-1" strike="noStrike">
                <a:solidFill>
                  <a:srgbClr val="000000"/>
                </a:solidFill>
                <a:latin typeface="Arial"/>
              </a:rPr>
              <a:t>21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5ACB-FA97-41FF-99E1-A0DAED773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63700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55736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37372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9228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191628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30864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0" y="371628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92280"/>
            <a:ext cx="867564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ärbung von Grap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58920" y="4508640"/>
            <a:ext cx="6945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wendung der Ellipsoidmethode in der Kombinatorischen Opti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8247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1120" y="25992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wendung der Ellipsoidmeth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Separationsproblem übe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st lösbar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Mit der Ellipsoidmethode ist das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Optimierungsproblem lösbar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kann in polynomieller Zeit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berechne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so kann          für perfekte Graphen in polynomieller Zeit berechne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33600" y="3111480"/>
                <a:ext cx="901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ϑ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87640" y="4797360"/>
                <a:ext cx="9018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468360" cy="5373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716280"/>
            <a:ext cx="468360" cy="1657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are Opt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gende lineare Optimierungsprobleme liefern Approximationen für      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t als Zeilen die charakteristischen Vektoren aller unabhängigen Mengen von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 perfekten Graphen gilt jeweils Gleich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332000" y="2637000"/>
                <a:ext cx="6983280" cy="20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≥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≤</m:t>
                    </m:r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940360" y="2133720"/>
                <a:ext cx="5047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236000" y="2060640"/>
                <a:ext cx="514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468360" cy="6308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0" y="5373000"/>
            <a:ext cx="46836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perfekten Graphen kann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polynomieller Zeit berechne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s liefert einen Algorithmus zur Bestimmung einer max. Clique in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duale Optimierungsproblem liefert minimale Überdeckung mit unabhängigen Mengen in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s ist aber genau die minimale Färbung von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43120" y="1989000"/>
                <a:ext cx="357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ϑ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308640"/>
            <a:ext cx="468360" cy="549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. GRÖTSCHEL, L. LOVÁSZ and A. SCHRIJVER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Ellipsoid Method and it‘s Consequences in Combinatorial Optimization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binatoric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1 (1982), 169-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. GRÖTSCHEL, L. LOVÁSZ and A. SCHRIJVER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ometric Algorithms and Combinatorial Optimization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. GRAHAM, M. GRÖTSCHEL and L. LOVÁSZ,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andbook of Combinatorics 1/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9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. JENSEN, B. TOFT,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raph Coloring Problem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1413000"/>
            <a:ext cx="867564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2997360"/>
            <a:ext cx="1008360" cy="0"/>
          </a:xfrm>
          <a:prstGeom prst="line">
            <a:avLst/>
          </a:prstGeom>
          <a:ln w="136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3053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ärbe die Länder der Karte mit 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en Anzahl Farben, so dass benachb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änder nicht die gleiche Farbe ha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93000" y="1628640"/>
            <a:ext cx="1851120" cy="3462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940360" y="2997360"/>
            <a:ext cx="1008000" cy="0"/>
          </a:xfrm>
          <a:prstGeom prst="line">
            <a:avLst/>
          </a:prstGeom>
          <a:ln w="136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2311200" cy="396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1917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80870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Ellipsoidmeth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was Graphenth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Färbungs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kte Grap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Sandwich-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wendung der Ellipsoidmeth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ärbung durch lineare Opti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68360" y="404280"/>
            <a:ext cx="503280" cy="158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68360" y="1052640"/>
            <a:ext cx="50328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68360" y="1773000"/>
            <a:ext cx="503280" cy="1368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68360" y="2349000"/>
            <a:ext cx="503280" cy="1366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68360" y="314172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68360" y="4508280"/>
            <a:ext cx="503280" cy="43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68360" y="5516640"/>
            <a:ext cx="503280" cy="433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8360" y="6093000"/>
            <a:ext cx="503280" cy="504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e Ellipsoidmethod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85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geben: Ein konvexer Körp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eren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Separ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5640" y="2735280"/>
                <a:ext cx="3671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⊆</m:t>
                    </m:r>
                    <m:r>
                      <m:t xml:space="preserve">B</m:t>
                    </m:r>
                    <m:r>
                      <m:t xml:space="preserve">⊆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877080" y="2205000"/>
                <a:ext cx="1942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58920" y="3645000"/>
                <a:ext cx="264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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239840" y="5248440"/>
            <a:ext cx="261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92360" y="5300640"/>
                <a:ext cx="13669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508720" y="5373720"/>
                <a:ext cx="280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∨</m:t>
                        </m:r>
                        <m:r>
                          <m:t xml:space="preserve">∃</m:t>
                        </m:r>
                        <m:r>
                          <m:t xml:space="preserve">c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&gt;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</m:lim>
                        </m:limLow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468360" cy="69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468360" cy="692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1413000"/>
            <a:ext cx="867564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e Ellipsoidmethod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940360" y="3573360"/>
            <a:ext cx="3000600" cy="302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468360" cy="69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468360" cy="692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597528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phen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845964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ximale Kardinalität einer C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nimale Kardinalität einer Färb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42920" y="2162160"/>
                <a:ext cx="1513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42920" y="3314880"/>
                <a:ext cx="15130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16000" y="4467240"/>
                <a:ext cx="31813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0"/>
            <a:ext cx="468360" cy="1557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92280"/>
            <a:ext cx="46836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s Färbungs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ucht ist eine minimale Färbung von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G,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.h.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inde eine minimale Familie von paarweise disjunkten unabhängigen Mengen, die den Graphen überde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in            zu bestimmen ist in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987640" y="1628640"/>
                <a:ext cx="1513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0920" y="5300640"/>
                <a:ext cx="12240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0"/>
            <a:ext cx="468360" cy="1916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57360"/>
            <a:ext cx="4683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ekte Grap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60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Berechnung der chromatischen Zahl eines Graphe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Graph heißt perfekt, genau dann w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existiert eine Zahl          mi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in polynomieller Zeit berechnet werden kann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Sandwich-Zahl)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r perfekte Graphen kann man         bere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132000" y="3429000"/>
                <a:ext cx="23036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284720" y="4308480"/>
                <a:ext cx="9349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ϑ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96000" y="4322880"/>
                <a:ext cx="31687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ϑ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56360" y="5983200"/>
                <a:ext cx="863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468360" cy="2637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16280"/>
            <a:ext cx="46836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e Sandwich-Zah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 der maximale Zielfunktionswert des folgenden semidefiniten Optimierungs-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gilt: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Menge aller Matrizen mit obiger Eigenschaft ist konvex und wird m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zeich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26920" y="1563840"/>
                <a:ext cx="909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ϑ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55640" y="2708280"/>
                <a:ext cx="820908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</m:t>
                        </m:r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ym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p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midef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ce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⇔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∉</m:t>
                            </m:r>
                            <m:r>
                              <m:t xml:space="preserve">E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022480" y="4624560"/>
                <a:ext cx="30672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ϑ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χ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468360" cy="3716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637000"/>
            <a:ext cx="468360" cy="1079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3:22:22Z</dcterms:created>
  <dc:creator>Robert Nickel</dc:creator>
  <dc:description/>
  <dc:language>en-US</dc:language>
  <cp:lastModifiedBy>Robert Nickel</cp:lastModifiedBy>
  <dcterms:modified xsi:type="dcterms:W3CDTF">2005-11-16T10:34:41Z</dcterms:modified>
  <cp:revision>18</cp:revision>
  <dc:subject/>
  <dc:title>Färbung von Graphen</dc:title>
</cp:coreProperties>
</file>